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1040-D10F-4B20-A236-EBBA11894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5B09-2D3D-4D39-9CFD-0E6CF599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EF89-5D5F-48E9-AADE-724878C3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8A58-B69C-4896-A919-A683D0AC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43EB-1272-49D6-BF49-CEDA5E52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5CC6-C959-4EAD-AD28-DB44C1E3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50CB-9CA8-4BD2-A8C2-2C7580D8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25C1-D054-42CF-9A6E-7C6ABBB9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7070-BFB4-4F1D-A3B6-95C5B960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422E-8AD1-45BC-94D2-A4F6E28B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6110-CE6F-4F81-AB41-819AAB99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3721-C377-4816-B70D-AC132453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B132-B974-427F-934F-1A0AB445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5C24-D016-4CD3-A10C-EA279CFA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E0E3-807A-4405-BAC6-3436A4B0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AD5E-BF91-4FF4-9916-F8F072DCE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A330-E234-471F-972D-B3C456C3B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9307-E21C-425B-9F66-7CF9A93B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988B-4E07-47A9-AD9E-FFF48AD6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7639-EEAE-4251-B7F1-66F93711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A5B4-98C5-4BE2-868C-31E042F4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FB8D-CFC8-4D76-8B6B-D80F164B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8EBE-EF36-459B-B72A-96073681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D747-8673-4404-B89E-AE6BA0C9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DB7A-70A5-43F4-8F2E-6B484EAD75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4BB4-C43D-4385-B3D1-EB2DC7D4C0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330033"/>
                </a:solidFill>
                <a:latin typeface="Times New Roman"/>
              </a:rPr>
              <a:t>Irregular Preterite Verbs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ge 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ancemos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HABER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HACER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hub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hub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hub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hub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hub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hubi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hi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hic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990033"/>
                </a:solidFill>
                <a:latin typeface="Arial"/>
              </a:rPr>
              <a:t>hiz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hic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hic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hici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"/>
          <p:cNvSpPr/>
          <p:nvPr/>
        </p:nvSpPr>
        <p:spPr>
          <a:xfrm flipH="1">
            <a:off x="6019920" y="2819520"/>
            <a:ext cx="7617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SABER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QUERER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sup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sup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sup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sup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sup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supi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qu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quis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quis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quis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quis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quisi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VENIR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vi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vin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vin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vin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vin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vini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DECIR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TRAER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dij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dij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dij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dij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dij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990033"/>
                </a:solidFill>
                <a:latin typeface="Arial"/>
              </a:rPr>
              <a:t>dij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raj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raj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raj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raj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raj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990033"/>
                </a:solidFill>
                <a:latin typeface="Arial"/>
              </a:rPr>
              <a:t>traj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5"/>
          <p:cNvSpPr/>
          <p:nvPr/>
        </p:nvSpPr>
        <p:spPr>
          <a:xfrm flipH="1">
            <a:off x="2514240" y="4800600"/>
            <a:ext cx="7621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 flipH="1">
            <a:off x="6705720" y="4724280"/>
            <a:ext cx="7617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330033"/>
                </a:solidFill>
                <a:latin typeface="Times New Roman"/>
              </a:rPr>
              <a:t>Irregular Preterite Verbs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is a whole set of irregular preterite verb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se verbs have NO ACCENT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ndings for irregular preterite verbs a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, iste, o, imos, isteis, ie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330033"/>
                </a:solidFill>
                <a:latin typeface="Times New Roman"/>
              </a:rPr>
              <a:t>Irregular Preterite Verbs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is a song you can learn so that you can easily memorize the irregular preterite verbs…it goes like thi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2743200" y="4800600"/>
            <a:ext cx="5334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330033"/>
                </a:solidFill>
                <a:latin typeface="Times New Roman"/>
              </a:rPr>
              <a:t>Irregular Preterite Verbs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er es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TU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star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ESTU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 es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FU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 tambi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én 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ner es </a:t>
            </a: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PUS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Poder es </a:t>
            </a: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P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TRAJ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s para Tra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ber es </a:t>
            </a: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HUB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Hacer es </a:t>
            </a: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H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aber es </a:t>
            </a: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SUP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Querer es </a:t>
            </a: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QU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enir es </a:t>
            </a: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VIN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Decir es </a:t>
            </a: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D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er </a:t>
            </a: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VI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Dar </a:t>
            </a: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DI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--- No acento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330033"/>
                </a:solidFill>
                <a:latin typeface="Times New Roman"/>
              </a:rPr>
              <a:t>TENER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u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uv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u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uv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uv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uvi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ANDAR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du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duv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du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duv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duv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duvi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ESTAR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stu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stuv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stu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stuv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stuv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stuvi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PODER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PONER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d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d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d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d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di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s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s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s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s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si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IR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SER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2T19:09:12Z</dcterms:created>
  <dc:creator>Suzanne M. Shirley</dc:creator>
  <dc:description/>
  <dc:language>en-US</dc:language>
  <cp:lastModifiedBy>Suzanne</cp:lastModifiedBy>
  <dcterms:modified xsi:type="dcterms:W3CDTF">2009-09-07T19:54:39Z</dcterms:modified>
  <cp:revision>7</cp:revision>
  <dc:subject/>
  <dc:title>Irregular Preterite Verbs</dc:title>
</cp:coreProperties>
</file>